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CA41-CC87-44E9-AA72-C188CF6B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53C9-3746-49A7-9777-0E4B3321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A141-7FE0-46D9-9F19-5448699D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EE7-A93F-4B86-9F23-85701E54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8B79-F9E5-417A-BD70-BBED313A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589F-9CDA-426B-AEE2-4775D94F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9382-DC61-4DD6-B802-A8F61AB7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5F65-F496-4C2F-89A4-DD0CDFB9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C7F9-1925-44AF-8F6A-51B30E48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2B60-F5EF-4D22-8F60-6E18EFFC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F8A7-D75C-455E-BC53-5F54FFAC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0DC1-49B2-47DD-B48F-E0ED1C73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223B-A588-45AB-A274-31888B77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8963-C1D7-4AA5-9395-1F9BE06D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4922-FB20-4833-9DDF-79161570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75FC-2604-4710-AE4A-B8CEBA68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D88F-9AD1-497B-A60D-05F970CE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26D4-A8E9-48C8-B4F1-A94825CB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6AA1-7FF3-468D-8DD6-875585FB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C7D2-3EBD-4C3A-A726-C6360FE0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15FA-BA6E-438D-A895-F356CB8C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A685-728D-41CD-989C-60F83814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1C4-8E09-4405-8D55-B3EB62E4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8902-C677-44F7-AA05-153301D9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F4A9-F99C-4963-A099-A3F6435D01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3F4A-0F74-4EF2-9861-A6EC18E321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76520" y="304920"/>
            <a:ext cx="64008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3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60093"/>
                </a:solidFill>
                <a:latin typeface="Times New Roman"/>
              </a:rPr>
              <a:t>L V M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Logical Volume Manager for Lin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inz Mauelshag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linux.LVM@ez-darmstadt.telekom.d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/02/1999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 and 1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00200" y="2666880"/>
            <a:ext cx="5943600" cy="2743200"/>
            <a:chOff x="1600200" y="2666880"/>
            <a:chExt cx="5943600" cy="2743200"/>
          </a:xfrm>
        </p:grpSpPr>
        <p:sp>
          <p:nvSpPr>
            <p:cNvPr id="154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828800" y="3657600"/>
            <a:ext cx="5486400" cy="1676520"/>
            <a:chOff x="1828800" y="3657600"/>
            <a:chExt cx="5486400" cy="1676520"/>
          </a:xfrm>
        </p:grpSpPr>
        <p:sp>
          <p:nvSpPr>
            <p:cNvPr id="161" name=""/>
            <p:cNvSpPr/>
            <p:nvPr/>
          </p:nvSpPr>
          <p:spPr>
            <a:xfrm>
              <a:off x="1828800" y="4724280"/>
              <a:ext cx="5486400" cy="609840"/>
            </a:xfrm>
            <a:prstGeom prst="ellipse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8800" y="4035600"/>
              <a:ext cx="5486400" cy="993600"/>
            </a:xfrm>
            <a:prstGeom prst="rect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3657600"/>
              <a:ext cx="5486400" cy="685800"/>
            </a:xfrm>
            <a:prstGeom prst="ellipse">
              <a:avLst/>
            </a:prstGeom>
            <a:gradFill rotWithShape="0">
              <a:gsLst>
                <a:gs pos="0">
                  <a:srgbClr val="ad4cff"/>
                </a:gs>
                <a:gs pos="100000">
                  <a:srgbClr val="7834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218480" y="5456160"/>
            <a:ext cx="727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6600" y="5106960"/>
            <a:ext cx="531720" cy="608040"/>
          </a:xfrm>
          <a:prstGeom prst="line">
            <a:avLst/>
          </a:prstGeom>
          <a:ln w="25560">
            <a:solidFill>
              <a:srgbClr val="ad4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5400" y="2986200"/>
            <a:ext cx="1413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568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14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PV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change - change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pvcreate   - initializes VGDA on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ata      - displays VGDA (debugg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isplay - show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move    - moves PEs/LEs between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scan      - searches for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back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oes a VGDA bac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rest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tores VGDA to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hang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hange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eck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s a new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VG „un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te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a 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im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a VG „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er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erge two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kno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reate device spec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du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duce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empty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scan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search for VG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spl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plit a VG into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2fsad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or reduce LVs wit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cluded ext2 Dateisyste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(resize2fs nee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ange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 a new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extend          - extend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duce          - reduce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M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et LVM in case of a te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disk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disks, dis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artitions or multip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d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llect LV read/writ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port of collected LV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statist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4920" bIns="30492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9 VGs 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6 LVs total (8 bit minor #) in all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PEs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LEs per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/LE sizes between several KB 8*) and 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1000 TB but limited by int variables in the Linux I/O subsystem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800 hours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34000 LOC (Lines Of Code) including all sources, comments, manual pages, scripts, makefiles, READMEs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9000 LOC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/driver with 3200 L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 library functions in 127 source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5 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Goal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flexible I/O-system extension for Linux to gain a virtual view on mass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scaling of mass storage capacities in wide 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and reduction of storage without system interru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it GNU licen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2025720"/>
            <a:ext cx="8262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905120"/>
            <a:ext cx="7848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VG “test” with 2 PVs (/dev/sd[kl]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1 LV “tlv” containing an EXT2F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k       #  set partition type identifier to0x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l       #                  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create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k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l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create test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using default physical extent size of 4 MB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maximum logical volume size is 256 Gigaby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volume group “test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stored on /dev/sd[kl]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special file /dev/test/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backup stored in /etc/lvmconf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name added to /etc/lvmtab and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is loaded into the driver so that VG “test” can be acc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continued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5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lvcreate -L 300 -n tlv test #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logical volume “/dev/test/tlv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ke2fs 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ke2fs 1.10, 24-Apr-97 for EXT2 FS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riting superblocks and filesystem accounting information: d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ount /dev/test/tlv /us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ffff"/>
                </a:solidFill>
                <a:latin typeface="Courier New"/>
              </a:rPr>
              <a:t>. 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 special file /dev/test/tlv mapping a size of 300 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tc/lvmtab.d/test.conf renamed to /etc/lvmtab.d/test.conf.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ackup  of VGDA stored in  /etc/lvmtab.d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d VGDA loaded into the driver to be able to access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unted EXT2 filesystem in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8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08 / 5.891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b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Logical volume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ope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rent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ed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io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 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lock devic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8: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to be continued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 the LEs of LV /dev/test/tlv away from PV /dev/sdk1 to PV /dev/sd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move -f /dev/sdk1    # /dev/sd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moving physical extents in active volume group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75 extents of physical volume successfully mo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10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4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ge of physical disks, disk partitions or multiple devices as  PVs (Physical Volumes; basic allocation devic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 PVs in VGs (Volume Groups; virtual disk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cation of VG storage to LVs (Logical Volumes; virtual partitions) in basic units called PEs (Physical Ex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905120"/>
            <a:ext cx="75549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VG “test” by the free PV /dev/sdk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reduce test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“test” successfully reduc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34 / 1.7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The Future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of RAID1/5/10/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t-filesystem in a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 driver into Linux 2.3 ker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ociate UUIDs (Uniform Unique Identifiers) to VGs and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VGDA by additional attributes like LV creation tim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Who and Where?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M softwar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linux.msede.com/l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Mail-lis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msede.com (majordom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Author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ez-darmstadt.telekom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7880" y="1905120"/>
            <a:ext cx="67071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cccc"/>
                </a:solidFill>
                <a:latin typeface="Times New Roman"/>
              </a:rPr>
              <a:t>Thank you :-)</a:t>
            </a:r>
            <a:endParaRPr b="0" i="1" lang="en-US" sz="8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address space of the LVs in units of LEs (Logical Extents; kind of block) to the PEs on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and reduce VGs and LVs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Vs like disks, disk partitions or multiple devices for filesystems, database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ss VGs and LVs via device special files named /dev/VolumeGroupName/*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 configuration information (VGDA or Volume Group Descriptor Area) on each PV of a VG and for performance reasons in a working copy on file in /etc/lvmtab.d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GDA holds all the attributes of the PV, VG, LVs and the allocation of the 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LEs (Logical Extents) of LVs to the PEs of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the attributes and the mapping tables in a LVM driver (loadable as a module to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alls to the mapping function of the driver in “/usr/src/linux/drivers/block/ll_rw_blk.c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command and a library layer to ease the integration of different or additional tools or graphical user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and import VGs to bring them to or get them from different computer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linear and striped (RAID0)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86200" y="2819520"/>
            <a:ext cx="2438280" cy="2361960"/>
            <a:chOff x="4786200" y="2819520"/>
            <a:chExt cx="2438280" cy="2361960"/>
          </a:xfrm>
        </p:grpSpPr>
        <p:sp>
          <p:nvSpPr>
            <p:cNvPr id="127" name=""/>
            <p:cNvSpPr/>
            <p:nvPr/>
          </p:nvSpPr>
          <p:spPr>
            <a:xfrm>
              <a:off x="4786200" y="46483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86200" y="3124080"/>
              <a:ext cx="2438280" cy="182880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6200" y="28195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2819520"/>
            <a:ext cx="2438280" cy="2377440"/>
            <a:chOff x="2133720" y="2819520"/>
            <a:chExt cx="2438280" cy="2377440"/>
          </a:xfrm>
        </p:grpSpPr>
        <p:sp>
          <p:nvSpPr>
            <p:cNvPr id="131" name=""/>
            <p:cNvSpPr/>
            <p:nvPr/>
          </p:nvSpPr>
          <p:spPr>
            <a:xfrm>
              <a:off x="2133720" y="466056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3720" y="3125880"/>
              <a:ext cx="2438280" cy="18410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33720" y="281952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30440" y="5335560"/>
            <a:ext cx="2284200" cy="700560"/>
            <a:chOff x="3430440" y="5335560"/>
            <a:chExt cx="2284200" cy="700560"/>
          </a:xfrm>
        </p:grpSpPr>
        <p:sp>
          <p:nvSpPr>
            <p:cNvPr id="135" name=""/>
            <p:cNvSpPr/>
            <p:nvPr/>
          </p:nvSpPr>
          <p:spPr>
            <a:xfrm>
              <a:off x="3996000" y="5456160"/>
              <a:ext cx="1169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2 PV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0660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044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00200" y="2666880"/>
            <a:ext cx="5943600" cy="3369240"/>
            <a:chOff x="1600200" y="2666880"/>
            <a:chExt cx="5943600" cy="3369240"/>
          </a:xfrm>
        </p:grpSpPr>
        <p:sp>
          <p:nvSpPr>
            <p:cNvPr id="141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44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195080" y="5456160"/>
              <a:ext cx="773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V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6760" y="5106960"/>
              <a:ext cx="531720" cy="608040"/>
            </a:xfrm>
            <a:prstGeom prst="line">
              <a:avLst/>
            </a:prstGeom>
            <a:ln w="255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568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14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9:48Z</dcterms:created>
  <dc:creator>telekom</dc:creator>
  <dc:description/>
  <dc:language>en-US</dc:language>
  <cp:lastModifiedBy>Heinz Mauelshagen</cp:lastModifiedBy>
  <cp:lastPrinted>1998-05-28T18:02:56Z</cp:lastPrinted>
  <dcterms:modified xsi:type="dcterms:W3CDTF">1999-02-21T19:15:18Z</dcterms:modified>
  <cp:revision>293</cp:revision>
  <dc:subject/>
  <dc:title>Vorstellung einer Neuhe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linux.msede.com/lvm</vt:lpwstr>
  </property>
  <property fmtid="{D5CDD505-2E9C-101B-9397-08002B2CF9AE}" pid="9" name="LinkColor">
    <vt:r8>16711782</vt:r8>
  </property>
  <property fmtid="{D5CDD505-2E9C-101B-9397-08002B2CF9AE}" pid="10" name="MailAddress">
    <vt:lpwstr>linux-lvm@ez-darmstadt.telekom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Eigene Dateien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