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66111"/>
        <c:axId val="81954387"/>
      </c:barChart>
      <c:catAx>
        <c:axId val="95066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54387"/>
        <c:crosses val="autoZero"/>
        <c:auto val="1"/>
        <c:lblAlgn val="ctr"/>
        <c:lblOffset val="100"/>
        <c:noMultiLvlLbl val="0"/>
      </c:catAx>
      <c:valAx>
        <c:axId val="81954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66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9D2-AC92-409C-99DB-C212B6C3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99A-331B-401B-B1AA-F7A17B8B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9A0-9CED-4193-AF32-C555DC0D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E6A-F973-441F-9D9C-7C325C22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17D-BC80-4B2E-87FD-17C417BC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BBB-5CFD-4EEB-A686-B91EEC57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C9A-FC17-4CDB-8C67-04E1486A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203-2ECE-4205-975C-B7E05AFD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34E-E0FD-4333-8D0E-44BD6FD9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47E-EC8C-44BC-B942-966A71A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016-41E1-4B95-A0B9-329D23B7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056-A6C4-41FA-9255-135FB0C1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321A2-A43C-4777-8E57-1CFCF3381D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